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88840" y="404604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888840" y="177840"/>
            <a:ext cx="736632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634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888840" y="404604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634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7932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87016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88884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7932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87016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4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888840" y="177840"/>
            <a:ext cx="736632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634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888840" y="404604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634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7932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7016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8884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7932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7016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37932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87016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88884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37932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87016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888840" y="177840"/>
            <a:ext cx="736632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34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888840" y="404604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34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7932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7016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88884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7932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7016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888840" y="177840"/>
            <a:ext cx="736632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634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888840" y="404604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634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7932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87016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88884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7932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87016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888840" y="177840"/>
            <a:ext cx="736632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634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888840" y="404604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634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37932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87016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88884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37932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587016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888840" y="177840"/>
            <a:ext cx="736632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634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888840" y="404604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634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37932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7016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88884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37932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7016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888840" y="177840"/>
            <a:ext cx="736632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634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888840" y="404604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634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7932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87016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88884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37932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87016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888840" y="177840"/>
            <a:ext cx="736632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34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888840" y="404604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34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7932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87016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88884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7932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87016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88840" y="177840"/>
            <a:ext cx="736632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34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888840" y="404604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34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7932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7016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88884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7932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7016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888840" y="177840"/>
            <a:ext cx="736632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634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88840" y="404604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634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88840" y="177840"/>
            <a:ext cx="736632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37932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87016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88884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37932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87016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888840" y="177840"/>
            <a:ext cx="736632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34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888840" y="404604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34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37932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7016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88884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37932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7016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888840" y="177840"/>
            <a:ext cx="736632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4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34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88840" y="404604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34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7932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87016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8884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7932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87016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88840" y="177840"/>
            <a:ext cx="736632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34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888840" y="4046040"/>
            <a:ext cx="73663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3440" y="194292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888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3440" y="4046040"/>
            <a:ext cx="35946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7932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870160" y="194292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88884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7932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870160" y="4046040"/>
            <a:ext cx="2371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4000"/>
          </a:bodyPr>
          <a:p>
            <a:pPr marL="620280" indent="-417240"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942840" indent="-417600"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265040" indent="-417240"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3" marL="1599480" indent="-417240"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4" marL="1922040" indent="-417600"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5" marL="1922040" indent="-417600"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6" marL="1922040" indent="-417600"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888480" y="1942920"/>
            <a:ext cx="35434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1000"/>
          </a:bodyPr>
          <a:p>
            <a:pPr marL="487080" indent="-31212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65000" indent="-31248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42560" indent="-31212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330560" indent="-31212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4" marL="1608480" indent="-31248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5" marL="1608480" indent="-31248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6" marL="1608480" indent="-31248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4000"/>
          </a:bodyPr>
          <a:p>
            <a:pPr marL="565200" indent="-36216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887760" indent="-36252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209960" indent="-36216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544400" indent="-36216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4" marL="1866600" indent="-36252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5" marL="1866600" indent="-36252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6" marL="1866600" indent="-36252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460840" y="1942920"/>
            <a:ext cx="2794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9000"/>
          </a:bodyPr>
          <a:p>
            <a:pPr marL="414720" indent="-26568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51600" indent="-26604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888120" indent="-26568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133640" indent="-26568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4" marL="1370160" indent="-26604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5" marL="1370160" indent="-26604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6" marL="1370160" indent="-26604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888480" y="1942920"/>
            <a:ext cx="35434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1000"/>
          </a:bodyPr>
          <a:p>
            <a:pPr marL="487080" indent="-31212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65000" indent="-31248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42560" indent="-31212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330560" indent="-31212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4" marL="1608480" indent="-31248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5" marL="1608480" indent="-31248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6" marL="1608480" indent="-31248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600480" indent="-403920">
              <a:spcBef>
                <a:spcPts val="33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912960" indent="-404280">
              <a:spcBef>
                <a:spcPts val="33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224720" indent="-403920">
              <a:spcBef>
                <a:spcPts val="33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3" marL="1548360" indent="-403920">
              <a:spcBef>
                <a:spcPts val="33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4" marL="1860480" indent="-404280">
              <a:spcBef>
                <a:spcPts val="33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5" marL="1860480" indent="-404280">
              <a:spcBef>
                <a:spcPts val="33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6" marL="1860480" indent="-404280">
              <a:spcBef>
                <a:spcPts val="33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88840" y="2095200"/>
            <a:ext cx="7366320" cy="267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88840" y="1155600"/>
            <a:ext cx="736632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888840" y="3530160"/>
            <a:ext cx="7366320" cy="80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8840" y="5181480"/>
            <a:ext cx="7366320" cy="120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88840" y="5181480"/>
            <a:ext cx="7366320" cy="120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444240" y="3454200"/>
            <a:ext cx="4127400" cy="2323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44240" y="1079280"/>
            <a:ext cx="4127400" cy="2323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44240" y="3454200"/>
            <a:ext cx="4127400" cy="2323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44240" y="1079280"/>
            <a:ext cx="4127400" cy="2323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-36360" y="2813040"/>
            <a:ext cx="91929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d99"/>
                </a:solidFill>
                <a:latin typeface="Arial Bold"/>
                <a:ea typeface="Arial Bold"/>
              </a:rPr>
              <a:t>1914 - 1919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"/>
          <p:cNvSpPr/>
          <p:nvPr/>
        </p:nvSpPr>
        <p:spPr>
          <a:xfrm>
            <a:off x="-25560" y="3699000"/>
            <a:ext cx="91569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99"/>
                </a:solidFill>
                <a:latin typeface="Comic Sans MS"/>
                <a:ea typeface="Comic Sans MS"/>
              </a:rPr>
              <a:t>The Aftermath of World War On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273480" y="1928880"/>
            <a:ext cx="2298600" cy="1904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 Bold"/>
                <a:ea typeface="Comic Sans MS Bold"/>
              </a:rPr>
              <a:t>How had the World been affected by the First World War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" name=""/>
          <p:cNvSpPr/>
          <p:nvPr/>
        </p:nvSpPr>
        <p:spPr>
          <a:xfrm flipH="1" flipV="1">
            <a:off x="2120760" y="1382760"/>
            <a:ext cx="1082880" cy="533520"/>
          </a:xfrm>
          <a:prstGeom prst="line">
            <a:avLst/>
          </a:prstGeom>
          <a:ln w="28440">
            <a:solidFill>
              <a:srgbClr val="002d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650920" y="1557000"/>
            <a:ext cx="1152360" cy="35892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2323800" y="3916440"/>
            <a:ext cx="841320" cy="554040"/>
          </a:xfrm>
          <a:prstGeom prst="line">
            <a:avLst/>
          </a:prstGeom>
          <a:ln w="28440">
            <a:solidFill>
              <a:srgbClr val="002d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"/>
          <p:cNvSpPr/>
          <p:nvPr/>
        </p:nvSpPr>
        <p:spPr>
          <a:xfrm>
            <a:off x="152280" y="5451480"/>
            <a:ext cx="2248200" cy="723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d99"/>
                </a:solidFill>
                <a:latin typeface="Arial"/>
                <a:ea typeface="Arial"/>
              </a:rPr>
              <a:t>Injured soldiers and civilian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12600"/>
            <a:ext cx="915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 Bold"/>
                <a:ea typeface="Comic Sans MS Bold"/>
              </a:rPr>
              <a:t>Add as many facts as possible to the following diagram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468360" y="3873600"/>
            <a:ext cx="1655640" cy="1231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56" name=""/>
          <p:cNvSpPr/>
          <p:nvPr/>
        </p:nvSpPr>
        <p:spPr>
          <a:xfrm>
            <a:off x="150840" y="2378160"/>
            <a:ext cx="227340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d99"/>
                </a:solidFill>
                <a:latin typeface="Arial"/>
                <a:ea typeface="Arial"/>
              </a:rPr>
              <a:t>The Death Toll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1052640" cy="1512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58" name=""/>
          <p:cNvSpPr/>
          <p:nvPr/>
        </p:nvSpPr>
        <p:spPr>
          <a:xfrm>
            <a:off x="5651640" y="3573360"/>
            <a:ext cx="720720" cy="36036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3"/>
          <a:stretch/>
        </p:blipFill>
        <p:spPr>
          <a:xfrm>
            <a:off x="6948360" y="836640"/>
            <a:ext cx="1657440" cy="1254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60" name="" descr=""/>
          <p:cNvPicPr/>
          <p:nvPr/>
        </p:nvPicPr>
        <p:blipFill>
          <a:blip r:embed="rId4"/>
          <a:stretch/>
        </p:blipFill>
        <p:spPr>
          <a:xfrm>
            <a:off x="6948360" y="3789360"/>
            <a:ext cx="1603440" cy="1655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61" name=""/>
          <p:cNvSpPr/>
          <p:nvPr/>
        </p:nvSpPr>
        <p:spPr>
          <a:xfrm flipV="1">
            <a:off x="5688720" y="1447920"/>
            <a:ext cx="1054440" cy="482400"/>
          </a:xfrm>
          <a:prstGeom prst="line">
            <a:avLst/>
          </a:prstGeom>
          <a:ln w="28440">
            <a:solidFill>
              <a:srgbClr val="002d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2" name=""/>
          <p:cNvSpPr/>
          <p:nvPr/>
        </p:nvSpPr>
        <p:spPr>
          <a:xfrm>
            <a:off x="5676840" y="3911760"/>
            <a:ext cx="927000" cy="609480"/>
          </a:xfrm>
          <a:prstGeom prst="line">
            <a:avLst/>
          </a:prstGeom>
          <a:ln w="28440">
            <a:solidFill>
              <a:srgbClr val="002d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3" name=""/>
          <p:cNvSpPr/>
          <p:nvPr/>
        </p:nvSpPr>
        <p:spPr>
          <a:xfrm>
            <a:off x="6616800" y="2241720"/>
            <a:ext cx="2273040" cy="1282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d99"/>
                </a:solidFill>
                <a:latin typeface="Arial"/>
                <a:ea typeface="Arial"/>
              </a:rPr>
              <a:t>Blame and Reparations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4" name=""/>
          <p:cNvSpPr/>
          <p:nvPr/>
        </p:nvSpPr>
        <p:spPr>
          <a:xfrm>
            <a:off x="6616800" y="5664240"/>
            <a:ext cx="227304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d99"/>
                </a:solidFill>
                <a:latin typeface="Arial"/>
                <a:ea typeface="Arial"/>
              </a:rPr>
              <a:t>Social Changes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-36360" y="2889360"/>
            <a:ext cx="91929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d99"/>
                </a:solidFill>
                <a:latin typeface="Arial Bold"/>
                <a:ea typeface="Arial Bold"/>
              </a:rPr>
              <a:t>1914 - 1919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1035000" y="366840"/>
            <a:ext cx="908280" cy="234792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-12600" y="3584520"/>
            <a:ext cx="9156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99"/>
                </a:solidFill>
                <a:latin typeface="Comic Sans MS"/>
                <a:ea typeface="Comic Sans MS"/>
              </a:rPr>
              <a:t>The Aftermath of World War On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7199280" y="291960"/>
            <a:ext cx="959040" cy="251784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-139680" y="4451400"/>
            <a:ext cx="9156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d99"/>
                </a:solidFill>
                <a:latin typeface="Gill Sans"/>
                <a:ea typeface="Gill Sans"/>
              </a:rPr>
              <a:t>All photographs used are believed to be in the public domain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0" name=""/>
          <p:cNvSpPr/>
          <p:nvPr/>
        </p:nvSpPr>
        <p:spPr>
          <a:xfrm>
            <a:off x="1890720" y="4819680"/>
            <a:ext cx="50925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f67"/>
                </a:solidFill>
                <a:latin typeface="Gill Sans"/>
                <a:ea typeface="Gill Sans"/>
              </a:rPr>
              <a:t>Photos of The Great War 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</a:rPr>
              <a:t>www.gwpda.org/photos/greatwar.htm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 rot="11400">
            <a:off x="1343160" y="2244240"/>
            <a:ext cx="64515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5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d99"/>
                </a:solidFill>
                <a:latin typeface="Arial Bold"/>
                <a:ea typeface="Arial Bold"/>
              </a:rPr>
              <a:t>The War to End All Wars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482840" y="1457280"/>
            <a:ext cx="6168960" cy="4522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29" name=""/>
          <p:cNvSpPr/>
          <p:nvPr/>
        </p:nvSpPr>
        <p:spPr>
          <a:xfrm>
            <a:off x="831960" y="5492880"/>
            <a:ext cx="43815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e0500"/>
                </a:solidFill>
                <a:latin typeface="Arial Bold"/>
                <a:ea typeface="Arial Bold"/>
              </a:rPr>
              <a:t>What can you see?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"/>
          <p:cNvSpPr/>
          <p:nvPr/>
        </p:nvSpPr>
        <p:spPr>
          <a:xfrm>
            <a:off x="216000" y="219240"/>
            <a:ext cx="8712000" cy="10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cc"/>
                </a:solidFill>
                <a:latin typeface="Arial"/>
                <a:ea typeface="Arial"/>
              </a:rPr>
              <a:t>What were the effects of World War One upon those individuals and countries involved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2886120" y="485640"/>
            <a:ext cx="6372360" cy="388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4720" cy="685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33" name=""/>
          <p:cNvSpPr/>
          <p:nvPr/>
        </p:nvSpPr>
        <p:spPr>
          <a:xfrm>
            <a:off x="900000" y="4365720"/>
            <a:ext cx="1006560" cy="718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>
            <a:off x="2843280" y="4844880"/>
            <a:ext cx="624816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d99"/>
                </a:solidFill>
                <a:latin typeface="Arial Bold"/>
                <a:ea typeface="Arial Bold"/>
              </a:rPr>
              <a:t>What effect would the appalling loss of life have upon those countries involved in the war ?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0" y="1082520"/>
            <a:ext cx="9144000" cy="4676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36" name=""/>
          <p:cNvSpPr/>
          <p:nvPr/>
        </p:nvSpPr>
        <p:spPr>
          <a:xfrm>
            <a:off x="0" y="291960"/>
            <a:ext cx="91566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99"/>
                </a:solidFill>
                <a:latin typeface="Arial Bold"/>
                <a:ea typeface="Arial Bold"/>
              </a:rPr>
              <a:t>What does this photograph show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573200" y="587520"/>
            <a:ext cx="5975280" cy="4481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38" name=""/>
          <p:cNvSpPr/>
          <p:nvPr/>
        </p:nvSpPr>
        <p:spPr>
          <a:xfrm>
            <a:off x="0" y="25560"/>
            <a:ext cx="91566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99"/>
                </a:solidFill>
                <a:latin typeface="Arial Bold"/>
                <a:ea typeface="Arial Bold"/>
              </a:rPr>
              <a:t>What can you see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5519880"/>
            <a:ext cx="915660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d99"/>
                </a:solidFill>
                <a:latin typeface="Arial Bold"/>
                <a:ea typeface="Arial Bold"/>
              </a:rPr>
              <a:t>What effect would this level of devastation have upon the people of France and Belgium in particular?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1506600" y="374760"/>
            <a:ext cx="6146640" cy="4647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41" name=""/>
          <p:cNvSpPr/>
          <p:nvPr/>
        </p:nvSpPr>
        <p:spPr>
          <a:xfrm>
            <a:off x="63360" y="5218200"/>
            <a:ext cx="91569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d99"/>
                </a:solidFill>
                <a:latin typeface="Arial Bold"/>
                <a:ea typeface="Arial Bold"/>
              </a:rPr>
              <a:t>Who would be expected to pay for most of the damage caused during the war?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755640" y="2781360"/>
            <a:ext cx="22734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99"/>
                </a:solidFill>
                <a:latin typeface="Arial Bold"/>
                <a:ea typeface="Arial Bold"/>
              </a:rPr>
              <a:t>What can you see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3718080" y="696960"/>
            <a:ext cx="4878360" cy="5040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44" name=""/>
          <p:cNvSpPr/>
          <p:nvPr/>
        </p:nvSpPr>
        <p:spPr>
          <a:xfrm>
            <a:off x="0" y="6000840"/>
            <a:ext cx="915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d99"/>
                </a:solidFill>
                <a:latin typeface="Arial Bold"/>
                <a:ea typeface="Arial Bold"/>
              </a:rPr>
              <a:t>How did life change for women within those countries at war?</a:t>
            </a:r>
            <a:endParaRPr b="0" lang="en-US" sz="23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5621400"/>
            <a:ext cx="91566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dcc"/>
                </a:solidFill>
                <a:uFillTx/>
                <a:latin typeface="Arial"/>
                <a:ea typeface="Arial"/>
              </a:rPr>
              <a:t>Think</a:t>
            </a:r>
            <a:r>
              <a:rPr b="0" lang="en-US" sz="1800" spc="-1" strike="noStrike">
                <a:solidFill>
                  <a:srgbClr val="003dcc"/>
                </a:solidFill>
                <a:latin typeface="Arial"/>
                <a:ea typeface="Arial"/>
              </a:rPr>
              <a:t> of those soldiers who had had limbs amputated, or those who were suffering from Shell Shock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225360" y="1649520"/>
            <a:ext cx="4537080" cy="3144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5016600" y="1847880"/>
            <a:ext cx="3816360" cy="2757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48" name=""/>
          <p:cNvSpPr/>
          <p:nvPr/>
        </p:nvSpPr>
        <p:spPr>
          <a:xfrm>
            <a:off x="0" y="260280"/>
            <a:ext cx="91566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d99"/>
                </a:solidFill>
                <a:latin typeface="Arial Bold"/>
                <a:ea typeface="Arial Bold"/>
              </a:rPr>
              <a:t>How did life change for those that returned from the war with serious injuries or illness?</a:t>
            </a:r>
            <a:endParaRPr b="0" lang="en-US" sz="23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4</dc:creator>
  <dc:description/>
  <dc:language>en-US</dc:language>
  <cp:lastModifiedBy/>
  <cp:revision>0</cp:revision>
  <dc:subject/>
  <dc:title>PowerPoint Presentation</dc:title>
</cp:coreProperties>
</file>